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4EF-7621-4AE8-A3D5-5E871234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8C7-7D0D-4C70-B8AB-3869075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A90-0218-4944-A182-1FB3586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94D-1566-45AB-B9A4-6701FC18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D2CF-3B6E-4307-98F9-1794B628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CEC9-6BF5-433A-AF51-CC10A99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DEB0-F7FA-47A1-A841-5E4295E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C041-C426-4FCB-B458-23C3D280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9F4-5B1E-4C0D-9D36-5DDB245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514-045A-4F5C-95E4-220E4A9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9F8-CCBA-42AA-838C-85BB68F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F4-17C2-4B31-9377-42D35E9E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EB2C-41A6-4134-AD9C-A4C9B31E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779-E21A-4852-A1A5-FC7B6FD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CABE-E9C9-4940-97B3-BAF3357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5E8-F22D-41C2-8A2E-5CF5FF0D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A484-E75B-41BF-B1DC-D6D748E9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517-888D-4D30-A8C9-4754C2DC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BA2-5CF0-4D9E-A4E3-2070B597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0A5-69EB-46C7-BA4A-8137C66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182-650B-41C4-9D76-5F64C170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DF0-52B1-4828-827E-869D4A3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5BD-C55A-44D2-8DD9-6CC8C5D3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24A-A4C9-491E-AE06-ED24218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283-6663-46B7-9F39-F6248EF1B0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6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F558-4BEB-4ECB-82DF-D54E47F785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cs.ohio-state.edu/hcs300/glossary/glossary.htm" TargetMode="External"/><Relationship Id="rId2" Type="http://schemas.openxmlformats.org/officeDocument/2006/relationships/hyperlink" Target="http://classroom.jc-schools.net/sci-units/plants-animals.htm" TargetMode="External"/><Relationship Id="rId3" Type="http://schemas.openxmlformats.org/officeDocument/2006/relationships/hyperlink" Target="http://www.urbanext.uiuc.edu/gpe/case1/facts.html" TargetMode="External"/><Relationship Id="rId4" Type="http://schemas.openxmlformats.org/officeDocument/2006/relationships/hyperlink" Target="http://www.firstschoolyears.com/science/worksheets/plants/plants.html" TargetMode="External"/><Relationship Id="rId5" Type="http://schemas.openxmlformats.org/officeDocument/2006/relationships/hyperlink" Target="http://www.naturegrid.org.uk/plant/parts.html" TargetMode="External"/><Relationship Id="rId6" Type="http://schemas.openxmlformats.org/officeDocument/2006/relationships/hyperlink" Target="http://www.hhmi.org/coolscience/vegquiz/plantparts.html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Parts of a Plant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de 3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cflowery6"/>
          <p:cNvPicPr/>
          <p:nvPr/>
        </p:nvPicPr>
        <p:blipFill>
          <a:blip r:embed="rId1"/>
          <a:stretch/>
        </p:blipFill>
        <p:spPr>
          <a:xfrm>
            <a:off x="7315200" y="1219320"/>
            <a:ext cx="1828800" cy="3755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leave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stem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peta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practice go to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firstschoolyears.com/science/worksheets/plants/plants.htm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fern"/>
          <p:cNvPicPr/>
          <p:nvPr/>
        </p:nvPicPr>
        <p:blipFill>
          <a:blip r:embed="rId7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Resources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firstschoolyears.com/science/worksheets/plants/plants.html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4" descr="fern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The student will learn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o identify the basic  parts of a pla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teacherexplain"/>
          <p:cNvPicPr/>
          <p:nvPr/>
        </p:nvPicPr>
        <p:blipFill>
          <a:blip r:embed="rId1"/>
          <a:stretch/>
        </p:blipFill>
        <p:spPr>
          <a:xfrm>
            <a:off x="3124080" y="2971800"/>
            <a:ext cx="4876920" cy="3462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he Stem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s up the plant parts above the ground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has tiny tubes to transport water an nutrients to the plant’s part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acti"/>
          <p:cNvPicPr/>
          <p:nvPr/>
        </p:nvPicPr>
        <p:blipFill>
          <a:blip r:embed="rId1"/>
          <a:stretch/>
        </p:blipFill>
        <p:spPr>
          <a:xfrm>
            <a:off x="7342200" y="1371600"/>
            <a:ext cx="1801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Leave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ake food for plants which is suga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ke in carbon dioxide through tiny openings in the leave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leaf1"/>
          <p:cNvPicPr/>
          <p:nvPr/>
        </p:nvPicPr>
        <p:blipFill>
          <a:blip r:embed="rId1"/>
          <a:stretch/>
        </p:blipFill>
        <p:spPr>
          <a:xfrm>
            <a:off x="3962520" y="304920"/>
            <a:ext cx="32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eaf1"/>
          <p:cNvPicPr/>
          <p:nvPr/>
        </p:nvPicPr>
        <p:blipFill>
          <a:blip r:embed="rId2"/>
          <a:stretch/>
        </p:blipFill>
        <p:spPr>
          <a:xfrm>
            <a:off x="6858000" y="914400"/>
            <a:ext cx="1733400" cy="923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Root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 the plant in the grou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in water and nutrients for the plant’s growt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roots"/>
          <p:cNvPicPr/>
          <p:nvPr/>
        </p:nvPicPr>
        <p:blipFill>
          <a:blip r:embed="rId1"/>
          <a:stretch/>
        </p:blipFill>
        <p:spPr>
          <a:xfrm>
            <a:off x="1371600" y="4724280"/>
            <a:ext cx="7086600" cy="2079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Petal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re the colored part of the plant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roseorange"/>
          <p:cNvPicPr/>
          <p:nvPr/>
        </p:nvPicPr>
        <p:blipFill>
          <a:blip r:embed="rId1"/>
          <a:stretch/>
        </p:blipFill>
        <p:spPr>
          <a:xfrm>
            <a:off x="2895480" y="3200400"/>
            <a:ext cx="3581640" cy="3368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Root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41:49Z</dcterms:created>
  <dc:creator>Jefferson County Tech Center</dc:creator>
  <dc:description/>
  <dc:language>en-US</dc:language>
  <cp:lastModifiedBy>student</cp:lastModifiedBy>
  <dcterms:modified xsi:type="dcterms:W3CDTF">2010-01-20T01:01:08Z</dcterms:modified>
  <cp:revision>3</cp:revision>
  <dc:subject/>
  <dc:title>Parts of a Plant</dc:title>
</cp:coreProperties>
</file>